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10E36-C327-4D5A-80DD-D919229C2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C616C-BA5C-40A1-B054-194FF5AB2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EF281-FB39-4E09-A123-B09B9390D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2AD74-60FB-44B8-AA60-D10938635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45857-7CC5-4385-8011-9F2D21451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E42CA-2238-4785-B768-0AED557AA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3AEC3-FB83-4D83-9285-07F169609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A18AA-BF2A-46FF-9AD9-AE6163A38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7C486-9723-4C51-AD0B-F596E324B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1486A-BCB4-4E03-9EE3-56AB87EB8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DEB5C-8A29-4A00-8BD8-A1B103441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46CFF-0D15-4D7A-848E-4B323FAE2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9527-1F08-43FF-A6EC-89C7BA9255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95280" y="604800"/>
            <a:ext cx="8064360" cy="2752920"/>
            <a:chOff x="395280" y="604800"/>
            <a:chExt cx="8064360" cy="2752920"/>
          </a:xfrm>
        </p:grpSpPr>
        <p:pic>
          <p:nvPicPr>
            <p:cNvPr id="42" name="" descr=""/>
            <p:cNvPicPr/>
            <p:nvPr/>
          </p:nvPicPr>
          <p:blipFill>
            <a:blip r:embed="rId1"/>
            <a:stretch/>
          </p:blipFill>
          <p:spPr>
            <a:xfrm>
              <a:off x="395280" y="604800"/>
              <a:ext cx="4581360" cy="2752920"/>
            </a:xfrm>
            <a:prstGeom prst="rect">
              <a:avLst/>
            </a:prstGeom>
            <a:ln w="0">
              <a:noFill/>
            </a:ln>
          </p:spPr>
        </p:pic>
        <p:sp>
          <p:nvSpPr>
            <p:cNvPr id="43" name=""/>
            <p:cNvSpPr/>
            <p:nvPr/>
          </p:nvSpPr>
          <p:spPr>
            <a:xfrm>
              <a:off x="5219640" y="676440"/>
              <a:ext cx="3240000" cy="25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radeGothic"/>
                </a:rPr>
                <a:t>Testet baseras på en modell med två ankare kopplade via en tie, där varje ankare innehåller 100 000 identiteter. Attributtabeller innehåller 200 000 rader jämnt fördelat på två historiseringsdatum. På vartannat attribut skiljer sig ett av datumen, vilket ger en total av tre historiseringsdatum i de motsvarande 3NF-tabellerna.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radeGothic"/>
                </a:rPr>
                <a:t>Vi ökar antalet attribut i intervall om 10 upp till 50 i modellen, vilket gör 3NF-tabellerna bredare och således långsammare. Frågan som ställs gör group by på ett attribut och count distinct på ett annat attribut tillhörande ett annat ankare. För ankarmodellen ställs frågan mot senaste vyn och för 3NF mot tabellerna med en liknande subselect för att hitta senaste versionen.</a:t>
              </a:r>
              <a:endParaRPr b="0" lang="en-US" sz="1000" spc="-1" strike="noStrike">
                <a:solidFill>
                  <a:srgbClr val="000000"/>
                </a:solidFill>
                <a:latin typeface="Arial"/>
              </a:endParaRPr>
            </a:p>
          </p:txBody>
        </p:sp>
      </p:grpSp>
      <p:grpSp>
        <p:nvGrpSpPr>
          <p:cNvPr id="44" name=""/>
          <p:cNvGrpSpPr/>
          <p:nvPr/>
        </p:nvGrpSpPr>
        <p:grpSpPr>
          <a:xfrm>
            <a:off x="324000" y="3860640"/>
            <a:ext cx="8135640" cy="2760480"/>
            <a:chOff x="324000" y="3860640"/>
            <a:chExt cx="8135640" cy="2760480"/>
          </a:xfrm>
        </p:grpSpPr>
        <p:pic>
          <p:nvPicPr>
            <p:cNvPr id="45" name="" descr=""/>
            <p:cNvPicPr/>
            <p:nvPr/>
          </p:nvPicPr>
          <p:blipFill>
            <a:blip r:embed="rId2"/>
            <a:stretch/>
          </p:blipFill>
          <p:spPr>
            <a:xfrm>
              <a:off x="324000" y="3860640"/>
              <a:ext cx="4581360" cy="2752920"/>
            </a:xfrm>
            <a:prstGeom prst="rect">
              <a:avLst/>
            </a:prstGeom>
            <a:ln w="0">
              <a:noFill/>
            </a:ln>
          </p:spPr>
        </p:pic>
        <p:sp>
          <p:nvSpPr>
            <p:cNvPr id="46" name=""/>
            <p:cNvSpPr/>
            <p:nvPr/>
          </p:nvSpPr>
          <p:spPr>
            <a:xfrm>
              <a:off x="5219640" y="3938400"/>
              <a:ext cx="324000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radeGothic"/>
                </a:rPr>
                <a:t>Testet baseras på en modell med två ankare kopplade via en tie, där varje ankare har 10 kopplade attribut. Attributtabeller innehåller rader jämnt fördelat på två historiseringsdatum. På vartannat attribut skiljer sig ett av datumen, vilket ger en total av tre historiseringsdatum i de motsvarande 3NF-tabellerna.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000000"/>
                  </a:solidFill>
                  <a:latin typeface="TradeGothic"/>
                </a:rPr>
                <a:t>Vi ökar antalet rader intervall om 200 000 upp till en miljon i modellen, vilket ökar totala datamängden i 3NF-tabellerna snabbare än i ankarmodellen. Frågan som ställs gör group by på ett attribut och count distinct på ett annat attribut tillhörande ett annat ankare. För ankarmodellen ställs frågan mot senaste vyn och för 3NF mot tabellerna med en liknande subselect för att hitta senaste versionen.</a:t>
              </a:r>
              <a:endParaRPr b="0" lang="en-US" sz="1000" spc="-1" strike="noStrike">
                <a:solidFill>
                  <a:srgbClr val="000000"/>
                </a:solidFill>
                <a:latin typeface="Arial"/>
              </a:endParaRPr>
            </a:p>
          </p:txBody>
        </p:sp>
      </p:grpSp>
      <p:grpSp>
        <p:nvGrpSpPr>
          <p:cNvPr id="47" name=""/>
          <p:cNvGrpSpPr/>
          <p:nvPr/>
        </p:nvGrpSpPr>
        <p:grpSpPr>
          <a:xfrm>
            <a:off x="179280" y="3429000"/>
            <a:ext cx="8785440" cy="307080"/>
            <a:chOff x="179280" y="3429000"/>
            <a:chExt cx="8785440" cy="307080"/>
          </a:xfrm>
        </p:grpSpPr>
        <p:sp>
          <p:nvSpPr>
            <p:cNvPr id="48" name=""/>
            <p:cNvSpPr/>
            <p:nvPr/>
          </p:nvSpPr>
          <p:spPr>
            <a:xfrm>
              <a:off x="779040" y="3429000"/>
              <a:ext cx="33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adeGothic"/>
                </a:rPr>
                <a:t>Test av ökande antal rader i tabellerna</a:t>
              </a:r>
              <a:endParaRPr b="0" lang="en-US" sz="1400" spc="-1" strike="noStrike">
                <a:solidFill>
                  <a:srgbClr val="000000"/>
                </a:solidFill>
                <a:latin typeface="Arial"/>
              </a:endParaRPr>
            </a:p>
          </p:txBody>
        </p:sp>
        <p:sp>
          <p:nvSpPr>
            <p:cNvPr id="49" name=""/>
            <p:cNvSpPr/>
            <p:nvPr/>
          </p:nvSpPr>
          <p:spPr>
            <a:xfrm>
              <a:off x="179280" y="3573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067280" y="35733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 name=""/>
          <p:cNvGrpSpPr/>
          <p:nvPr/>
        </p:nvGrpSpPr>
        <p:grpSpPr>
          <a:xfrm>
            <a:off x="179280" y="189000"/>
            <a:ext cx="8785440" cy="307080"/>
            <a:chOff x="179280" y="189000"/>
            <a:chExt cx="8785440" cy="307080"/>
          </a:xfrm>
        </p:grpSpPr>
        <p:sp>
          <p:nvSpPr>
            <p:cNvPr id="52" name=""/>
            <p:cNvSpPr/>
            <p:nvPr/>
          </p:nvSpPr>
          <p:spPr>
            <a:xfrm>
              <a:off x="826200" y="189000"/>
              <a:ext cx="314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adeGothic"/>
                </a:rPr>
                <a:t>Test av ökande storlek på modellen</a:t>
              </a:r>
              <a:endParaRPr b="0" lang="en-US" sz="1400" spc="-1" strike="noStrike">
                <a:solidFill>
                  <a:srgbClr val="000000"/>
                </a:solidFill>
                <a:latin typeface="Arial"/>
              </a:endParaRPr>
            </a:p>
          </p:txBody>
        </p:sp>
        <p:sp>
          <p:nvSpPr>
            <p:cNvPr id="53" name=""/>
            <p:cNvSpPr/>
            <p:nvPr/>
          </p:nvSpPr>
          <p:spPr>
            <a:xfrm>
              <a:off x="179280" y="333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851280" y="333000"/>
              <a:ext cx="51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2:44:22Z</dcterms:created>
  <dc:creator>Lars Rönnbäck</dc:creator>
  <dc:description/>
  <dc:language>en-US</dc:language>
  <cp:lastModifiedBy>Lars Rönnbäck</cp:lastModifiedBy>
  <dcterms:modified xsi:type="dcterms:W3CDTF">2008-09-15T13:39:21Z</dcterms:modified>
  <cp:revision>14</cp:revision>
  <dc:subject/>
  <dc:title>Bild 1</dc:title>
</cp:coreProperties>
</file>